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move the slide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62D-CAB7-4BF0-BE80-2FFD032AB3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1. Добрый день. Вашему вниманию представляется проект «Использование системы биометрической верификации по изображению лица человека для задач контроля посещения занятий и настройки вспомогательного оборудования и ПО для проведения образовательного процесса под конкретного студент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одразделения достаточно давно занимаются биометрикой. Начинали мы с работой над устройствами для верификации отпечатков пальцев для мобильного телефона. Потом поняли, что интереснее бесконтактная верификация. В дальнейшем проект развился в сторону прикладных применений одно из которых мы сегодня Вам представ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632-488E-4A80-85F6-01A6CCE66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текущий момент разработан тестовый стенд, проведено тестирование, разработаны базовые модули. На текущий момент суммарные ошибки первого и второго рода менее одного процента на реальных данных как по верификации, так и в защите от под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18AA-AF80-4DCC-93CD-68CDF714D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анный момент в рамках нашего проекта прорабатывается задача интеграции нашей биометрической системы в систему образования. Т.е. будут верифицироваться пользователи-студенты. С одной стороны, это позволит автоматизировать контроль посещаемости занятий студентами, с другой это даст дополнительную степень эргономики, которая позволит настроить вспомогательное оборудование и ПО для проведения образовательного процесса в соответствии профилю пользователя и в дальнейшем вести аудит обучения. Это не единственная область практического применения нашей системы, но на данный момент сама актуальная. Сейчас ведутся работы для реализации функционала через веб-интерфейс. Т.е. достаточно будет доступа к интернету, камеры и браузера, чтобы начать процедуру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325-41D7-4522-A497-57584B7CC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анный макет демонстрировался на международном научно-техническом форуме Армия 2017. Где самый распространенный вопрос был к нашей системе – «Откуда у вас там стреляет?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7BA-1C31-40C3-9B29-266AC2684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перь, попробуем запустить удаленный доступ к нашему макету, где должны находиться два наших сотрудника, и я надеюсь, что они продемонстрируют работу наше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этом мой доклад окончен. По окончании демонстрации готов выслушать Ваши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EAF5-4182-4F0F-8F8D-F7D246C45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2. То, что тема биометрии актуально – достаточно очевидно. Это подтверждают и авторитетные аналитики и финансовые показател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2DF3-9F84-4C8A-9F10-89420AFB8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оссии рынок пока относительно свободен. С одной стороны – это хорошо – проще в него войти, с другой – приходится пользоваться стандартами десятилетней давности. Из положительного следует отметить, что с июля 2018 года в России заработал единая биометрическая система. Идея в какой-то степени утопическая – объединить в одну все имеющиеся системы биометрии. Но, сам факт такого внимания к проблеме радует. А еще из ГОСТов нам понравился ГОСТ на проверку живучести. Первичная проверка показала, что наша система в большой степени этому ГОСТу соответствует, хотя полной версии ГОСТа мне получить пока не удалось – только демонстрационную. Так что если придется официально сертифицироваться/лицензироваться, то трудности, конечно, будут, но думаю, вполне решае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079-E936-4538-95D4-AB6FBD0ED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ледующем слайде представлена упрощенная схема верификации. Все достаточно классически. С пользователя идентификатор и биометрические данные. Далее обращение к базе и экстрактор свойств. Сравнение и дальше доступ или отказ в досту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4A8-03CD-46FA-8F11-53AE6156A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6. Так это выглядит виз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E60-3235-4F49-885D-704388084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5. Слайд 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мках данного проекта разработан и реализован макет в виде моноблока с камерой. Если повезет, то в конце презентации нам удастся продемонстрировать фрагмент его работы в живую. А пока слайды. Вот добавление нового пользователя, затем вер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CE6-BD8B-4D32-B959-D2ADA353C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истеме реализована защита от подлога. Т.е. если вы попытаетесь вместо реального физического объекта подсунуть фотографию или видеопоток – скорее всего ничего не получится. Более того – будет отправлено соответствующее сообщение о подл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5547-B0BC-446E-8030-C8E4F4415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 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лайде представлены преимущества нашей системы по сравнению с существующими аналогами. Это бесконтактная съемка биометрических данных, использование мощностей графических ускорителей, низкие требования к качеству камеры с одновременным высоким (менее 1-го процента ошибки) качеством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0F79-4321-45FF-B3ED-2AE4A8C59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255-E897-4291-84FF-7DC8A56C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CD1-3C3E-458D-80EE-6511B5A3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4CB4-3F11-4EB1-A394-E248CADC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5826-FFF7-444F-A828-E25B5626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58AE1-7F30-43E7-9D7B-3154D61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6E6E2-82F8-45F7-8A89-D943404E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CAC32-F7AB-4E11-8AD4-2005F64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4514C-3F21-4416-B12B-D28DACC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0E0AF-FDC6-40C7-AAE1-8E74370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76683-4039-4086-B556-A720C326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F510-9BB4-4466-A987-1EFD331B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49BA8-1FEF-401E-B170-FB261B99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9ED-1CBA-4081-BDEE-DF42EFFC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87515-F5B5-4078-BD7D-3ED24AA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D1CE0-68AA-4DB3-9A89-580DB75A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F091C-9434-4E2D-9EDE-E50456B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A2FF3-46B8-4912-9D53-9EFC4F9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B5B90-B404-4D51-8734-CFC6A34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C3085-D931-4C7C-9FA0-8AC28B45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38E21-F5B1-4D26-A13B-37FD7EE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25EFA-8CD3-4F3D-ABF3-A88E156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3D974-B2E3-415B-A140-C8814211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3D77B-2E09-4BCC-8F4E-6C99F80A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C33-D82C-488A-844C-E598B37A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94395-26DC-4C23-BE5B-DCF2E6CA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13AF-3DFB-4783-8399-36B6DB80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A571-EB8A-43CC-A575-35FFC9B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C2D94-2D1B-40D7-A4A0-6C5E8530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6F55C-E842-4BA1-9222-8A7DDA2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AE02-0BCA-45DB-AFD6-67EFCC2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7F5D4-5A13-4633-9974-C8A0DE82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210E-EED2-4C0E-9DC6-AC0D6A5E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D1E6-CCC9-4E37-A71F-3C4A268C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3425B-B4E9-4A63-868B-C95E6DA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54E-5EA2-4F87-80FA-F18F510F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9D4D-83DF-49BF-90BB-61C06A48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866A9-A8D8-4A4F-A153-9B96B548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604E-6215-4752-8BD3-3BC91390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7D89-31CB-450F-BEC5-FD89AF1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8D4-7586-4FEF-92F0-9D51752F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7B0-5C88-4F6B-A5E5-497E303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70AC-CA22-4836-AB7C-3C62FA7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CC74-75A9-4055-9DDF-3EC7741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D0BD-B070-404A-9CBE-6D260A66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4E2-3E62-483F-909B-9022327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E3BF-A7DF-42C8-9531-008592F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240-9B96-4FFB-84FB-78482EF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DFA-E049-4CF0-9464-764F52FF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07C-CA3B-4A43-B15E-D703079F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5129-99D2-4884-8ABC-DCF277CC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5630-5E69-4691-8557-B8D584D1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2BF2-5F0A-4B84-BAF0-5FF3F9E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4654-55BB-4C70-85A0-F7561DA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E7C0-4483-47D9-8F15-3A8EE46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3A6C-2A1B-4694-9803-769990D0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390-8D94-4E9C-91D7-D321441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88D6-3242-4FBF-AA72-C45B8F7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BF90-D365-41C5-AD5D-E4EE744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3322-638E-476C-8EE4-B844C5C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134A-6ABC-4420-95E0-3DD965B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9850-2630-4B72-89AC-21F9CC4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F372-3570-4571-971F-8FA12DDB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AB90-1857-4AF7-B8DA-738DFB3A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9864-EA89-43F1-8E83-604BB20B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9F79-75D4-431A-87AD-D881CE9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06CB-97A2-4570-8194-BFDFBB17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1BE-5598-48CB-9831-570A508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342F-01D0-4F68-A881-3082DA10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7D7C-7F03-4C74-B657-21A40FB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C6DB-B367-43B9-97A6-F8BBA2F6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84CF-36C2-4A4A-AF9A-A1F17A5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5FFE-1680-4671-920F-28F9632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6D91-FFC7-4E50-8CE5-13EC38C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7D8E-31FD-4119-94E6-032CB86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FEB7-55D0-466D-9766-91AB6603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0C7C-AD5A-4202-895A-7037C23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8444-D053-4C5F-8CDD-CE19E867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91F-6111-498B-9C3E-CE5D1B36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FCB5F-985C-4012-B314-F2814F8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77F5-13DF-41EB-9356-2C2F508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FC02-A930-4CCE-8E64-4C9DAD6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7C2C-7D3B-4F22-85B5-0663ED3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5E39-5EE8-4242-9924-015511F0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CE3B-E1EB-441A-94F7-A165AF8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F895-EADB-49D5-BBDD-16D86F5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EA57-C137-4FFF-8FB0-50753BA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30A7-8481-445E-BB2B-4550C3B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5A51-28DC-45B8-8E1D-6AA4A924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E1B-5D34-4894-A213-18CCED7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9D2F-3568-49C4-935A-27049298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F728-7B33-441A-B9B8-4D4682BA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903A-35BF-4C9B-9461-55EA2FAF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4CF5-9E3D-4AC4-B6A1-AA840DBE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25F3-4476-4770-A099-F51E10C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C85B-0082-4D2E-8E72-0491518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CF1C-86E3-49AA-850F-2BC983F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1812-462D-4C72-BEF8-F5EF92A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63386-15D2-45B0-9FA8-503579D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E613-594B-4136-9E12-B3AAAFC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8BC-E9D6-436D-8AE9-94A2FD1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49D5-2495-4EF5-ADCD-57391728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27ED-771B-4C81-BEEC-0E32F4F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421AC-26D8-462F-9AB1-8D6B0713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AEAB9-94C0-4F51-9880-C90B6DCC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37BA-9B11-4C9F-A6D3-6AA6793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1965-CD7A-4319-AC03-30170D8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3C56-E3B3-43BE-9E3A-21D2B09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8447-8B8C-4D75-AF14-E759ECA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019F5-AA00-483A-8D99-3FD4C6D0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C326-4005-4231-BF2B-8F4378C4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149-D7BD-4DD7-A1F1-6320AB2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39A8-9EEA-4D92-9924-530A313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F133-1406-4485-AEB9-047AA69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A4521-FB5A-4E58-A615-15C72D1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7DF2-D07F-4DCC-9E80-C948285F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39A7-DA67-462C-A915-1FA57609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127C-A372-4C52-859B-2D5C405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AA76-EA75-4A24-AF7D-F1F176B6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E7380-B5BB-4E77-9CA9-DA3B47C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441D-5528-40DB-87E4-7826E13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96A25-4F25-4E29-9698-69A6B549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D0F-AEF9-4300-971E-5270FE4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89D49-6F89-47F4-AC11-F6FD8B4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EEC21-50C7-4736-96D6-63F9693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EF5C2-F400-4308-BD8B-657C3CC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314C2-5E6D-4E7B-BD25-A8245C9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4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61CC-694E-4AB1-ACF0-8BAD7214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7DA8-78D6-4EDD-A36C-A1CECBD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08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8440" y="4098240"/>
            <a:ext cx="33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EEBA-6636-42CB-BD6F-F501FF49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5F4C-6A96-4A9A-A752-D7EA75FD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A7FB7-9E92-440E-8427-8A29F3A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A659-677A-425F-87C8-6B78F490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500-C96D-4E17-B916-7EC2F0D5A509}" type="slidenum">
              <a:rPr b="0" lang="ru-RU" sz="12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0F0-533F-4545-899A-09783EC4F6D2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3B5-1191-4875-A5DD-569F20127E00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320-DB1B-48FD-8FE9-A53A202138E4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C3CD-2CB1-455A-8DCA-3DD8883C6E73}" type="slidenum">
              <a:rPr b="0" lang="ru-RU" sz="28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DE7B-7F97-489E-8E80-16F3F57368D1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B1C-75C8-4C6F-A18C-31DE3DB830A3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23F-FD02-4EC6-8915-15AC5651909B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216-5CB6-4C26-AF9A-03CC6F51D78C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D8D-156B-4D13-8E71-D92065D0D0AC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2c35"/>
                </a:solidFill>
                <a:latin typeface="Bebas Neue Bold"/>
              </a:rPr>
              <a:t>Click to edit the title text format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kroba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6f849c"/>
                </a:solidFill>
                <a:latin typeface="Akrob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8A64-B1F9-4E7F-89CA-C4E0395865B9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2960" y="2493720"/>
            <a:ext cx="103629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Использование системы биометрической верификации по изображению лица человека для задач контроля посещения занятий и настройки вспомогательного оборудования и ПО для проведения образовательного процесса под конкретного студента </a:t>
            </a:r>
            <a:endParaRPr b="0" lang="en-US" sz="28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0" y="5516280"/>
            <a:ext cx="1219032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технологии и платформы в образовании: как использовать новые возмож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131440" y="472428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Дмитрий Валерьевич, к.т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дзаголовок 2"/>
          <p:cNvSpPr/>
          <p:nvPr/>
        </p:nvSpPr>
        <p:spPr>
          <a:xfrm>
            <a:off x="2452680" y="249120"/>
            <a:ext cx="7647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Akrobat"/>
                <a:ea typeface="Arial"/>
              </a:rPr>
              <a:t>НГТУ им. Алексеева 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Akrobat"/>
                <a:ea typeface="Arial"/>
              </a:rPr>
              <a:t>Институт Радиоэлектроники и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Akrobat"/>
                <a:ea typeface="Arial"/>
              </a:rPr>
              <a:t>Кафедра Информатики и Систем Управления (ИС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5760"/>
                </a:solidFill>
                <a:latin typeface="Akrobat"/>
                <a:ea typeface="Arial"/>
              </a:rPr>
              <a:t>http://isu.nntu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9B7D-B9EE-4CED-8842-51C339477D52}" type="slidenum">
              <a:rPr b="0" lang="ru-RU" sz="28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Текущий этап реализации проекта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: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 тестовый стенд для демонстрации работы биометрической системы на моноблоке с видеокамерой.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ложение для биометрической верификации.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тестирование разработанного прототипа.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ы следующие характеристики работы системы: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ошибка первого и второго рода менее 1%.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ошибка защиты от подлога менее 1%.</a:t>
            </a:r>
            <a:endParaRPr b="0" lang="en-US" sz="2800" spc="-1" strike="noStrike">
              <a:solidFill>
                <a:srgbClr val="000000"/>
              </a:solidFill>
              <a:latin typeface="Akrobat"/>
            </a:endParaRPr>
          </a:p>
        </p:txBody>
      </p:sp>
      <p:sp>
        <p:nvSpPr>
          <p:cNvPr id="552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FC2C-2A5D-4BCA-8C31-6E82AD3F6C02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5736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Инновация проекта и перспективы развития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982800" y="1738440"/>
            <a:ext cx="1087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емая интеллектуальная биометрическая система вер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ов по изображению лица человека позв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эргономику обучения студ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 контроль посещаемости студентов за счет ауд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роект может развиваться в следующих направлениях: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совершенствование алгоритмов обучения и верификаци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й снижения суммарной ошибки первого и втор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ие профилей студентов н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ами работы систем, настраиваемых на конкре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FCE-2BF1-4878-81C8-B12113E40198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ижний колонтитул 3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4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937A-6DD4-4610-8FE1-81513D7763BD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3" descr=""/>
          <p:cNvPicPr/>
          <p:nvPr/>
        </p:nvPicPr>
        <p:blipFill>
          <a:blip r:embed="rId1"/>
          <a:stretch/>
        </p:blipFill>
        <p:spPr>
          <a:xfrm>
            <a:off x="2982960" y="1801800"/>
            <a:ext cx="6224400" cy="44402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110905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Популяризация</a:t>
            </a:r>
            <a:r>
              <a:rPr b="0" lang="ru-RU" sz="4000" spc="-1" strike="noStrike">
                <a:solidFill>
                  <a:srgbClr val="44546a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проекта на общественных мероприятиях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"/>
          <p:cNvPicPr/>
          <p:nvPr/>
        </p:nvPicPr>
        <p:blipFill>
          <a:blip r:embed="rId1"/>
          <a:srcRect l="1079" t="0" r="0" b="0"/>
          <a:stretch/>
        </p:blipFill>
        <p:spPr>
          <a:xfrm>
            <a:off x="2063880" y="476280"/>
            <a:ext cx="8746920" cy="41511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239760" y="4857840"/>
            <a:ext cx="1195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03950, г. Нижний Новгород, ул. Минина, 24 НГТУ им. Р.Е. Алекс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ститут радиоэлектроники и Информационных Технологий (И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федра Информатики и Систе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митриев Дмитрий Валерьевич, доцент кафе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+7-920-035-96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dmitdmit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D61-6E43-40BC-A16E-9CF0CCCF350D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Актуальность </a:t>
            </a:r>
            <a:br>
              <a:rPr sz="4400"/>
            </a:b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Мировой рынок биометрии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963720" y="2624760"/>
            <a:ext cx="938376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41200" tIns="241200" bIns="177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arket Insights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значный ро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авнению с данными рын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$ 6 357.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1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cs Services Market: Global Industry Analysis and Opportunity Assessment 2015 – 20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33B-767A-4E22-B175-A7BFD56B1522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116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Биометрические системы России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982800" y="1738440"/>
            <a:ext cx="107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фонд документов национальной системы стандартизации в области биометрических технологий содержит 44 национальных стандарта (ГОСТ Р), 3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ы в качестве межгосударственных (ГО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биометрическая система заработала в России с 1 июл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Р ИСО/МЭК 19795-1-2007 "Автоматическая идентификация. Идентификация биометрическая. Эксплуатационные испытания и протоколы испытаний в биометрии. Часть 1. Принципы и структура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Р ИСО/МЭК 19795-2-2008 "Автоматическая идентификация. Идентификация биометрическая. Эксплуатационные испытания и протоколы испытаний в биометрии. Часть 2. Методология проведения технологического и сценарного испытан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ерка "Живучести" ГОСТ Р ИСО/МЭК 30107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7DA-584E-42BF-B799-E8364CADFBF0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ижний колонтитул 2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Общая архитектура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pic>
        <p:nvPicPr>
          <p:cNvPr id="474" name="Объект 6" descr=""/>
          <p:cNvPicPr/>
          <p:nvPr/>
        </p:nvPicPr>
        <p:blipFill>
          <a:blip r:embed="rId1"/>
          <a:stretch/>
        </p:blipFill>
        <p:spPr>
          <a:xfrm>
            <a:off x="2525760" y="1825560"/>
            <a:ext cx="7142040" cy="435132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ая соединительная линия 44"/>
          <p:cNvSpPr/>
          <p:nvPr/>
        </p:nvSpPr>
        <p:spPr>
          <a:xfrm flipV="1">
            <a:off x="3486240" y="2435400"/>
            <a:ext cx="639720" cy="107136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49"/>
          <p:cNvSpPr/>
          <p:nvPr/>
        </p:nvSpPr>
        <p:spPr>
          <a:xfrm>
            <a:off x="3486240" y="3521160"/>
            <a:ext cx="868320" cy="106200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56"/>
          <p:cNvSpPr/>
          <p:nvPr/>
        </p:nvSpPr>
        <p:spPr>
          <a:xfrm>
            <a:off x="3486240" y="3521160"/>
            <a:ext cx="560160" cy="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60"/>
          <p:cNvSpPr/>
          <p:nvPr/>
        </p:nvSpPr>
        <p:spPr>
          <a:xfrm>
            <a:off x="5167440" y="2435400"/>
            <a:ext cx="855360" cy="96804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65"/>
          <p:cNvSpPr/>
          <p:nvPr/>
        </p:nvSpPr>
        <p:spPr>
          <a:xfrm>
            <a:off x="5075280" y="3521160"/>
            <a:ext cx="947520" cy="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70"/>
          <p:cNvSpPr/>
          <p:nvPr/>
        </p:nvSpPr>
        <p:spPr>
          <a:xfrm flipV="1">
            <a:off x="4851360" y="3673080"/>
            <a:ext cx="1171440" cy="92412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79"/>
          <p:cNvSpPr/>
          <p:nvPr/>
        </p:nvSpPr>
        <p:spPr>
          <a:xfrm>
            <a:off x="6939000" y="3521160"/>
            <a:ext cx="1822320" cy="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81"/>
          <p:cNvSpPr/>
          <p:nvPr/>
        </p:nvSpPr>
        <p:spPr>
          <a:xfrm>
            <a:off x="6475320" y="4051440"/>
            <a:ext cx="0" cy="7444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87"/>
          <p:cNvSpPr/>
          <p:nvPr/>
        </p:nvSpPr>
        <p:spPr>
          <a:xfrm>
            <a:off x="5003640" y="3521160"/>
            <a:ext cx="1019160" cy="216540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90"/>
          <p:cNvSpPr/>
          <p:nvPr/>
        </p:nvSpPr>
        <p:spPr>
          <a:xfrm>
            <a:off x="4851360" y="4603680"/>
            <a:ext cx="1171440" cy="10828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94"/>
          <p:cNvSpPr/>
          <p:nvPr/>
        </p:nvSpPr>
        <p:spPr>
          <a:xfrm>
            <a:off x="5156280" y="2435400"/>
            <a:ext cx="866520" cy="325116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7"/>
          <p:cNvSpPr/>
          <p:nvPr/>
        </p:nvSpPr>
        <p:spPr>
          <a:xfrm>
            <a:off x="1876320" y="251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Польз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8"/>
          <p:cNvSpPr/>
          <p:nvPr/>
        </p:nvSpPr>
        <p:spPr>
          <a:xfrm>
            <a:off x="4086720" y="142092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Сен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9"/>
          <p:cNvSpPr/>
          <p:nvPr/>
        </p:nvSpPr>
        <p:spPr>
          <a:xfrm>
            <a:off x="8164440" y="21891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Биометрическая база</a:t>
            </a:r>
            <a:r>
              <a:rPr b="0" lang="en-US" sz="2000" spc="-1" strike="noStrike">
                <a:solidFill>
                  <a:srgbClr val="252c35"/>
                </a:solidFill>
                <a:latin typeface="Bebas Neue Bold"/>
              </a:rPr>
              <a:t> </a:t>
            </a: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0"/>
          <p:cNvSpPr/>
          <p:nvPr/>
        </p:nvSpPr>
        <p:spPr>
          <a:xfrm>
            <a:off x="5513400" y="2081160"/>
            <a:ext cx="218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Общий сервер аутент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01"/>
          <p:cNvSpPr/>
          <p:nvPr/>
        </p:nvSpPr>
        <p:spPr>
          <a:xfrm>
            <a:off x="7039080" y="513396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Провайдер серв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5BB4-2ECB-47F9-A803-550F84B879D9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Нижний колонтитул 2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3635" b="0"/>
          <a:stretch/>
        </p:blipFill>
        <p:spPr>
          <a:xfrm>
            <a:off x="7500960" y="6029280"/>
            <a:ext cx="3284640" cy="552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"/>
          <p:cNvPicPr/>
          <p:nvPr/>
        </p:nvPicPr>
        <p:blipFill>
          <a:blip r:embed="rId2"/>
          <a:srcRect l="0" t="0" r="1029" b="0"/>
          <a:stretch/>
        </p:blipFill>
        <p:spPr>
          <a:xfrm>
            <a:off x="7389720" y="200160"/>
            <a:ext cx="3600720" cy="5829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5502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Схема алгоритма 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верификации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496" name="Прямая соединительная линия 5"/>
          <p:cNvSpPr/>
          <p:nvPr/>
        </p:nvSpPr>
        <p:spPr>
          <a:xfrm>
            <a:off x="8177040" y="2413080"/>
            <a:ext cx="0" cy="12016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ижний колонтитул 3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  <a:ea typeface="Arial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"/>
          <p:cNvSpPr/>
          <p:nvPr/>
        </p:nvSpPr>
        <p:spPr>
          <a:xfrm flipV="1">
            <a:off x="8197920" y="925200"/>
            <a:ext cx="1552680" cy="3934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11"/>
          <p:cNvSpPr/>
          <p:nvPr/>
        </p:nvSpPr>
        <p:spPr>
          <a:xfrm>
            <a:off x="10785600" y="1158840"/>
            <a:ext cx="0" cy="234000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13"/>
          <p:cNvSpPr/>
          <p:nvPr/>
        </p:nvSpPr>
        <p:spPr>
          <a:xfrm>
            <a:off x="7974000" y="4923000"/>
            <a:ext cx="701640" cy="2872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6"/>
          <p:cNvSpPr/>
          <p:nvPr/>
        </p:nvSpPr>
        <p:spPr>
          <a:xfrm flipH="1">
            <a:off x="9750600" y="5065560"/>
            <a:ext cx="722160" cy="14472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20"/>
          <p:cNvSpPr/>
          <p:nvPr/>
        </p:nvSpPr>
        <p:spPr>
          <a:xfrm flipH="1">
            <a:off x="8399520" y="5964120"/>
            <a:ext cx="691920" cy="2350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23"/>
          <p:cNvSpPr/>
          <p:nvPr/>
        </p:nvSpPr>
        <p:spPr>
          <a:xfrm>
            <a:off x="9244080" y="5964120"/>
            <a:ext cx="590400" cy="23508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8"/>
          <p:cNvSpPr/>
          <p:nvPr/>
        </p:nvSpPr>
        <p:spPr>
          <a:xfrm>
            <a:off x="5499000" y="15796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Польз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9"/>
          <p:cNvSpPr/>
          <p:nvPr/>
        </p:nvSpPr>
        <p:spPr>
          <a:xfrm>
            <a:off x="10775160" y="18720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Сен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0"/>
          <p:cNvSpPr/>
          <p:nvPr/>
        </p:nvSpPr>
        <p:spPr>
          <a:xfrm>
            <a:off x="7209360" y="281448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c35"/>
                </a:solidFill>
                <a:latin typeface="Bebas Neue Bold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1"/>
          <p:cNvSpPr/>
          <p:nvPr/>
        </p:nvSpPr>
        <p:spPr>
          <a:xfrm>
            <a:off x="5200560" y="3944880"/>
            <a:ext cx="21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Биометрическая база</a:t>
            </a:r>
            <a:r>
              <a:rPr b="0" lang="en-US" sz="2000" spc="-1" strike="noStrike">
                <a:solidFill>
                  <a:srgbClr val="252c35"/>
                </a:solidFill>
                <a:latin typeface="Bebas Neue Bold"/>
              </a:rPr>
              <a:t> </a:t>
            </a: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2"/>
          <p:cNvSpPr/>
          <p:nvPr/>
        </p:nvSpPr>
        <p:spPr>
          <a:xfrm>
            <a:off x="8397720" y="397368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Экстрактор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3"/>
          <p:cNvSpPr/>
          <p:nvPr/>
        </p:nvSpPr>
        <p:spPr>
          <a:xfrm>
            <a:off x="6905520" y="5256360"/>
            <a:ext cx="15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Модуль с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8" descr="smiley"/>
          <p:cNvPicPr/>
          <p:nvPr/>
        </p:nvPicPr>
        <p:blipFill>
          <a:blip r:embed="rId3"/>
          <a:stretch/>
        </p:blipFill>
        <p:spPr>
          <a:xfrm>
            <a:off x="7472520" y="6081840"/>
            <a:ext cx="563400" cy="5713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4" descr="d1E7-9TGBUA"/>
          <p:cNvPicPr/>
          <p:nvPr/>
        </p:nvPicPr>
        <p:blipFill>
          <a:blip r:embed="rId4"/>
          <a:stretch/>
        </p:blipFill>
        <p:spPr>
          <a:xfrm>
            <a:off x="10145880" y="60818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12" name="Номер слайда 2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B94-2BBA-4118-84C4-D940038BC0D4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2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Сбор данных и обучение модели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pic>
        <p:nvPicPr>
          <p:cNvPr id="515" name="Объект 6" descr=""/>
          <p:cNvPicPr/>
          <p:nvPr/>
        </p:nvPicPr>
        <p:blipFill>
          <a:blip r:embed="rId1"/>
          <a:stretch/>
        </p:blipFill>
        <p:spPr>
          <a:xfrm>
            <a:off x="843120" y="1839960"/>
            <a:ext cx="5303520" cy="3181320"/>
          </a:xfrm>
          <a:prstGeom prst="rect">
            <a:avLst/>
          </a:prstGeom>
          <a:ln w="0">
            <a:noFill/>
          </a:ln>
        </p:spPr>
      </p:pic>
      <p:sp>
        <p:nvSpPr>
          <p:cNvPr id="516" name="Нижний колонтитул 3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  <a:ea typeface="Arial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7" descr=""/>
          <p:cNvPicPr/>
          <p:nvPr/>
        </p:nvPicPr>
        <p:blipFill>
          <a:blip r:embed="rId2"/>
          <a:stretch/>
        </p:blipFill>
        <p:spPr>
          <a:xfrm>
            <a:off x="5805360" y="2830680"/>
            <a:ext cx="5421600" cy="3251160"/>
          </a:xfrm>
          <a:prstGeom prst="rect">
            <a:avLst/>
          </a:prstGeom>
          <a:ln w="0">
            <a:noFill/>
          </a:ln>
        </p:spPr>
      </p:pic>
      <p:sp>
        <p:nvSpPr>
          <p:cNvPr id="518" name="Овал 8"/>
          <p:cNvSpPr/>
          <p:nvPr/>
        </p:nvSpPr>
        <p:spPr>
          <a:xfrm>
            <a:off x="5900760" y="5572080"/>
            <a:ext cx="1254240" cy="26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10"/>
          <p:cNvSpPr/>
          <p:nvPr/>
        </p:nvSpPr>
        <p:spPr>
          <a:xfrm>
            <a:off x="887400" y="4183200"/>
            <a:ext cx="1252440" cy="26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Скругленная прямоугольная выноска 13"/>
          <p:cNvSpPr/>
          <p:nvPr/>
        </p:nvSpPr>
        <p:spPr>
          <a:xfrm>
            <a:off x="1682640" y="5162400"/>
            <a:ext cx="1605240" cy="613080"/>
          </a:xfrm>
          <a:prstGeom prst="wedgeRoundRectCallout">
            <a:avLst>
              <a:gd name="adj1" fmla="val -59050"/>
              <a:gd name="adj2" fmla="val -166587"/>
              <a:gd name="adj3" fmla="val 16667"/>
            </a:avLst>
          </a:prstGeom>
          <a:solidFill>
            <a:srgbClr val="bfbfb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Сбор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Скругленная прямоугольная выноска 15"/>
          <p:cNvSpPr/>
          <p:nvPr/>
        </p:nvSpPr>
        <p:spPr>
          <a:xfrm>
            <a:off x="7385040" y="6080040"/>
            <a:ext cx="2238480" cy="612720"/>
          </a:xfrm>
          <a:prstGeom prst="wedgeRoundRectCallout">
            <a:avLst>
              <a:gd name="adj1" fmla="val -91203"/>
              <a:gd name="adj2" fmla="val -112694"/>
              <a:gd name="adj3" fmla="val 16667"/>
            </a:avLst>
          </a:prstGeom>
          <a:solidFill>
            <a:srgbClr val="bfbfb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Пользователь добав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3CB-3140-486D-9B2D-D6AA4AA1264C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ижний колонтитул 2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Верификация пользователя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pic>
        <p:nvPicPr>
          <p:cNvPr id="525" name="Объект 6" descr=""/>
          <p:cNvPicPr/>
          <p:nvPr/>
        </p:nvPicPr>
        <p:blipFill>
          <a:blip r:embed="rId1"/>
          <a:stretch/>
        </p:blipFill>
        <p:spPr>
          <a:xfrm>
            <a:off x="843120" y="1839960"/>
            <a:ext cx="5281560" cy="3166920"/>
          </a:xfrm>
          <a:prstGeom prst="rect">
            <a:avLst/>
          </a:prstGeom>
          <a:ln w="0">
            <a:noFill/>
          </a:ln>
        </p:spPr>
      </p:pic>
      <p:sp>
        <p:nvSpPr>
          <p:cNvPr id="526" name="Нижний колонтитул 3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  <a:ea typeface="Arial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7" descr=""/>
          <p:cNvPicPr/>
          <p:nvPr/>
        </p:nvPicPr>
        <p:blipFill>
          <a:blip r:embed="rId2"/>
          <a:stretch/>
        </p:blipFill>
        <p:spPr>
          <a:xfrm>
            <a:off x="5808600" y="2828880"/>
            <a:ext cx="5421240" cy="3251160"/>
          </a:xfrm>
          <a:prstGeom prst="rect">
            <a:avLst/>
          </a:prstGeom>
          <a:ln w="0">
            <a:noFill/>
          </a:ln>
        </p:spPr>
      </p:pic>
      <p:sp>
        <p:nvSpPr>
          <p:cNvPr id="528" name="Овал 8"/>
          <p:cNvSpPr/>
          <p:nvPr/>
        </p:nvSpPr>
        <p:spPr>
          <a:xfrm>
            <a:off x="5900760" y="5572080"/>
            <a:ext cx="1614600" cy="26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9"/>
          <p:cNvSpPr/>
          <p:nvPr/>
        </p:nvSpPr>
        <p:spPr>
          <a:xfrm>
            <a:off x="896760" y="4532400"/>
            <a:ext cx="1616400" cy="266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ая прямоугольная выноска 10"/>
          <p:cNvSpPr/>
          <p:nvPr/>
        </p:nvSpPr>
        <p:spPr>
          <a:xfrm>
            <a:off x="7385040" y="6080040"/>
            <a:ext cx="3246480" cy="612720"/>
          </a:xfrm>
          <a:prstGeom prst="wedgeRoundRectCallout">
            <a:avLst>
              <a:gd name="adj1" fmla="val -74203"/>
              <a:gd name="adj2" fmla="val -97148"/>
              <a:gd name="adj3" fmla="val 16667"/>
            </a:avLst>
          </a:prstGeom>
          <a:solidFill>
            <a:srgbClr val="bfbfb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Пользовател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НЕ ВЕРИФИЦИРО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кругленная прямоугольная выноска 11"/>
          <p:cNvSpPr/>
          <p:nvPr/>
        </p:nvSpPr>
        <p:spPr>
          <a:xfrm>
            <a:off x="2206800" y="5083200"/>
            <a:ext cx="2879640" cy="612720"/>
          </a:xfrm>
          <a:prstGeom prst="wedgeRoundRectCallout">
            <a:avLst>
              <a:gd name="adj1" fmla="val -64111"/>
              <a:gd name="adj2" fmla="val -97148"/>
              <a:gd name="adj3" fmla="val 16667"/>
            </a:avLst>
          </a:prstGeom>
          <a:solidFill>
            <a:srgbClr val="bfbfb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Пользовател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krobat"/>
              </a:rPr>
              <a:t> ВЕРИФИЦИРО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64E-9887-4480-9591-A05416B13F6B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Нижний колонтитул 2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Защита от подлога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pic>
        <p:nvPicPr>
          <p:cNvPr id="535" name="Объект 4" descr=""/>
          <p:cNvPicPr/>
          <p:nvPr/>
        </p:nvPicPr>
        <p:blipFill>
          <a:blip r:embed="rId1"/>
          <a:stretch/>
        </p:blipFill>
        <p:spPr>
          <a:xfrm>
            <a:off x="2570040" y="1857240"/>
            <a:ext cx="7155000" cy="3922920"/>
          </a:xfrm>
          <a:prstGeom prst="rect">
            <a:avLst/>
          </a:prstGeom>
          <a:ln w="0">
            <a:noFill/>
          </a:ln>
        </p:spPr>
      </p:pic>
      <p:sp>
        <p:nvSpPr>
          <p:cNvPr id="536" name="Нижний колонтитул 3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  <a:ea typeface="Arial"/>
              </a:rPr>
              <a:t>НГТУ им. Алексеева, 201</a:t>
            </a:r>
            <a:r>
              <a:rPr b="0" lang="en-US" sz="1200" spc="-1" strike="noStrike">
                <a:solidFill>
                  <a:srgbClr val="6f849c"/>
                </a:solidFill>
                <a:latin typeface="Akrobat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6"/>
          <p:cNvSpPr/>
          <p:nvPr/>
        </p:nvSpPr>
        <p:spPr>
          <a:xfrm flipH="1" flipV="1">
            <a:off x="7188120" y="3774600"/>
            <a:ext cx="797040" cy="9540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ая соединительная линия 9"/>
          <p:cNvSpPr/>
          <p:nvPr/>
        </p:nvSpPr>
        <p:spPr>
          <a:xfrm flipH="1" flipV="1">
            <a:off x="7188120" y="3870000"/>
            <a:ext cx="797040" cy="119052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14"/>
          <p:cNvSpPr/>
          <p:nvPr/>
        </p:nvSpPr>
        <p:spPr>
          <a:xfrm flipH="1" flipV="1">
            <a:off x="5506560" y="3976200"/>
            <a:ext cx="351000" cy="48924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7"/>
          <p:cNvSpPr/>
          <p:nvPr/>
        </p:nvSpPr>
        <p:spPr>
          <a:xfrm flipV="1">
            <a:off x="3554280" y="3774600"/>
            <a:ext cx="273240" cy="690840"/>
          </a:xfrm>
          <a:prstGeom prst="line">
            <a:avLst/>
          </a:prstGeom>
          <a:ln w="25560">
            <a:solidFill>
              <a:srgbClr val="8497b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9664560" y="3514680"/>
            <a:ext cx="167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Нахождение лица и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9674280" y="4707000"/>
            <a:ext cx="184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Вычисление контрольных 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2690640" y="5743440"/>
            <a:ext cx="42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Слежение за точками</a:t>
            </a:r>
            <a:br>
              <a:rPr sz="2000"/>
            </a:br>
            <a:r>
              <a:rPr b="0" lang="ru-RU" sz="2000" spc="-1" strike="noStrike">
                <a:solidFill>
                  <a:srgbClr val="252c35"/>
                </a:solidFill>
                <a:latin typeface="Bebas Neue Bold"/>
              </a:rPr>
              <a:t>Вычисление положения гол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B40-0425-44CC-B70F-7E7883336CB7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Нижний колонтитул 4"/>
          <p:cNvSpPr/>
          <p:nvPr/>
        </p:nvSpPr>
        <p:spPr>
          <a:xfrm>
            <a:off x="4038480" y="6356520"/>
            <a:ext cx="41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849c"/>
                </a:solidFill>
                <a:latin typeface="Akrobat"/>
              </a:rPr>
              <a:t>НГТУ им. Алексеева,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14440" y="374760"/>
            <a:ext cx="1051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2c35"/>
                </a:solidFill>
                <a:latin typeface="Times New Roman"/>
                <a:ea typeface="Times New Roman"/>
              </a:rPr>
              <a:t>Особенности разрабатываемой технологии</a:t>
            </a:r>
            <a:endParaRPr b="0" lang="en-US" sz="4400" spc="-1" strike="noStrike">
              <a:solidFill>
                <a:srgbClr val="252c35"/>
              </a:solidFill>
              <a:latin typeface="Bebas Neue Bold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911160" y="2009880"/>
            <a:ext cx="1094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ставляемый проект бесконтактный и его работа может осуществляться в негласно в фоновом реж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мощностей графических ускорител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U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ускорить как процесс верификации, так и обучения в десятки раз по сравнению с традиционными технологиями, использующими процесс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ие требования к качеству снимка пользователя при суммарной ошибке первого и второго рода менее 1-го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1"/>
          <p:cNvSpPr/>
          <p:nvPr/>
        </p:nvSpPr>
        <p:spPr>
          <a:xfrm>
            <a:off x="86090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ED1-2253-43A1-AFBA-615C4571515B}" type="slidenum">
              <a:rPr b="0" lang="ru-RU" sz="2400" spc="-1" strike="noStrike">
                <a:solidFill>
                  <a:srgbClr val="6f849c"/>
                </a:solidFill>
                <a:latin typeface="Akroba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7T08:12:47Z</dcterms:created>
  <dc:creator>DVP</dc:creator>
  <dc:description/>
  <dc:language>en-US</dc:language>
  <cp:lastModifiedBy>DVP</cp:lastModifiedBy>
  <dcterms:modified xsi:type="dcterms:W3CDTF">2019-11-12T21:37:06Z</dcterms:modified>
  <cp:revision>15</cp:revision>
  <dc:subject/>
  <dc:title>Использование системы биометрической верификации по изображению лица человека для задач контроля посещения занятий и настройки вспомогательного оборудования и ПО для проведения образовательного процесса под конкретного студента </dc:title>
</cp:coreProperties>
</file>